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CFF-BAD1-4EE0-82A1-331C6C1F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1D3-B9B2-4F15-9429-CEE8DC38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9B0-3C5A-45D2-B950-7AE649BB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E51-6A91-4DC7-83A8-32D47EDC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C8FE-87D4-4FD9-8A05-CBE0A410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2EFD-488B-45E8-AC56-ED8AF0D3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2024-DE21-42CD-89C5-271CF701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8B1E-BFB3-4E36-A2F8-65DFAA00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A51-F005-480B-A13A-90BB4B00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37B2-9187-48DA-983F-1FFB4608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B73B-90D7-4169-B42E-5BF7A84E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DD4-E497-47F5-934B-056F6800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EBD4-E514-4129-9F92-D92B9A38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2541-B14E-49F1-A365-ADB7B1FC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2AD-1FF1-41F3-B425-73AB4CAF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47BD-E02E-4D17-9379-46500A7D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7D96-301B-413B-B3F0-3931AE6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3D9A-72DB-464A-817D-4D736A0F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19B9-A68E-4254-A5F1-85946AC4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8BC4-3FB8-4542-ACE5-F24E5133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222E-677B-4E2E-8687-AA5978F2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5184A-F414-46B1-B1CC-288B8BDB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441-40C5-4800-A8E8-3A995D93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2AA3-EBDD-4DEC-B2DE-67FA9C1F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B951-4BD6-4FE9-AC4D-8E251633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1364-1AD8-4D2D-A2ED-510BE99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0592-17D5-4E54-B899-E1658CD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ED0A-8F25-48D9-89AF-E9C2E3E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4C13-D98C-4FFE-A544-051F0F2F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6C1D-8D60-4543-AED9-D50E5CE5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56F-201F-4502-993A-B415BEF9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0B9-BA0C-48C1-B45C-830964D4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6E4-C0D8-4BD9-AC26-6EC26D6E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574-A765-446D-95E8-6EFCDE79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5B9-F632-4054-9978-7FD94E2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8E8-DB19-44DF-9B50-EE2B0EF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82BB-A5CE-4419-A9A7-6747CD37804E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5D8B-ABCD-4690-9260-0DD201E6E777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3D2F-8854-4CC0-8218-6957989ED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lar.google.com.br/scholar?q=visao+sistemica+e+interdisciplinaridade&amp;hl=pt-BR&amp;as_sdt=0&amp;as_vis=1&amp;oi=scholart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rodu&#231;ao%202010.pdf" TargetMode="External"/><Relationship Id="rId2" Type="http://schemas.openxmlformats.org/officeDocument/2006/relationships/hyperlink" Target="file:///abordagem_sistemica%20RATTNER.doc" TargetMode="External"/><Relationship Id="rId3" Type="http://schemas.openxmlformats.org/officeDocument/2006/relationships/hyperlink" Target="file:///MARTINELLI,%202006.pdf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nifacef.com.br/novo/biblioteca.asp?idMenu=153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79866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spectos Gerais da Abordagem Sistêmica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9640" y="4797360"/>
            <a:ext cx="8353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a. Dra. Verônica Angélica Freitas de P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-FAC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04000" y="2708280"/>
            <a:ext cx="1944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227664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97180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227664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297180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65760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65760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1981080"/>
            <a:ext cx="6629400" cy="4267440"/>
          </a:xfrm>
          <a:prstGeom prst="rect">
            <a:avLst/>
          </a:prstGeom>
          <a:noFill/>
          <a:ln w="7632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066680"/>
            <a:ext cx="7467840" cy="5562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3505320"/>
            <a:ext cx="1066680" cy="157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3505320"/>
            <a:ext cx="1447920" cy="157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505320"/>
            <a:ext cx="1219320" cy="157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962160" y="57913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9625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54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outr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81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 outr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71800" y="32767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3276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5705640"/>
            <a:ext cx="30456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5095800"/>
            <a:ext cx="30456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49568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1460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146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380880"/>
            <a:ext cx="61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Ambiente do Sistem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1219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eira d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14600" y="609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5324400"/>
            <a:ext cx="381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53280" y="2819520"/>
            <a:ext cx="381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3505320"/>
            <a:ext cx="381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53280" y="4714920"/>
            <a:ext cx="381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77240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4267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059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30592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686800" y="281952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345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63120" y="5324400"/>
            <a:ext cx="3808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345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441360" y="1429920"/>
            <a:ext cx="45468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SCHODERBEK et al, 1990, p.2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Abordagem Sistêm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763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Abordagem Sistêmica – algumas estruturas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oria Geral de Sistema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ibernética – problemas mt complexos, probabilidade,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ise Sistêmica – sugerir curso de 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genharia de Sistemas – tecnologia, melhorar desempe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9185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mulada por uma equipe multidisciplinar de cientistas com interesses com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ipal motivador: Ludwig von Bertalanffy (anos 19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seado no conceito de Aristóteles: “O todo é maior que a soma das part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Teoria Geral de Sistemas (TG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 indivíduo é direcionado a consecução de me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entender o comportamento do organismo é necessário vê-lo como um todo, com sua tendência aos objetivos, com sua organização de partes interligadas e em int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S: mais que uma metodologia; é um esqueleto que auxilia a análise de fenômenos complexos enquanto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Teoria Geral de Sistemas (TG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disciplinaridad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ão hol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rdagem sistêmica x desenvolvimento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ha de pesquisa de cadeias produtivas e políticas públic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scholar.google.com.br/scholar?q=visao+sistemica+e+interdisciplinaridade&amp;hl=pt-BR&amp;as_sdt=0&amp;as_vis=1&amp;oi=scholar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ros temas?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4" descr="http://bignadaquasar.files.wordpress.com/2009/11/pergunta-idiota-resposta-creitina.jpg"/>
          <p:cNvPicPr/>
          <p:nvPr/>
        </p:nvPicPr>
        <p:blipFill>
          <a:blip r:embed="rId2"/>
          <a:stretch/>
        </p:blipFill>
        <p:spPr>
          <a:xfrm rot="1106400">
            <a:off x="7543800" y="5013360"/>
            <a:ext cx="1131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ferênci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VALCANTI, M.F.; PAULA, V.A.F. Teoria Geral de Sistemas I. In: MARTINELLI, D.P.; VENTURA, C.A.A. Visão sistêmica e administração – conceitos, metodologias e aplicações. São Paulo: Saraiv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RTINELLI, D.P.; VENTURA, C.A.A. Visão sistêmica e administração – conceitos, metodologias e aplicações. São Paulo: Saraiv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CHODERBEK, P. P.; SCHODERBEK, C. G.; KEFALAS, A. G. Management systems: conceptual considerations. EUA: Irwin,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 rot="973200">
            <a:off x="6659280" y="404280"/>
            <a:ext cx="1200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ferências – consultas / auto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Abordagem sistêmica na Eng. de P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Abordagem sistêmica, interdisciplinaridade e desenvolvimento sustentá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Martinelli, 2006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uris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ú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GS e 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ferências – consult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unifacef.com.br/novo/biblioteca.asp?idMenu=15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ttp://unifacef.com.br/portalweb/consbiblioteca.asp   (materi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sta de Administração Contemporânea</a:t>
            </a:r>
            <a:br>
              <a:rPr sz="2500"/>
            </a:b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http://www.scielo.br/scielo.php?script=sci_serial&amp;pid=1415-6555&amp;lng=en&amp;nrm=i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sta de Administração da Universidade de São Paulo / RAUSP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http://www.rausp.usp.br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sta Eletrônica de Administração / READ: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http://read.adm.ufrgs.br/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brigada!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fp@terra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Abordagem Sistêm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enário atual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cessidade de explicações complex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rganização da complexidad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stemas: abrangem n° infinito de estruturas do mundo real, dispostas em partes coordenadas, visando uma organ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stemas naturais, elaborados, públicos, privados, isolados, abrangentes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236000" y="339840"/>
            <a:ext cx="13683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Abordagem Sistêm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ersos sistemas no mundo real, inseridos em uma complexidade que os obriga a uma organização para assegurar seu funcion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udo, organização nem sempre assegura funcionamento contínuo do sistema, culminando em rupturas ou problemas que impedem a interação do to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ge, então, a necessidade da abordagem sistê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896400">
            <a:off x="7430760" y="188640"/>
            <a:ext cx="11016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Abordagem Sistêm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lexidade: número de elementos do sistema, seus atributos, interações e grau de organização inerente ao sistem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bordagem sistêmica garante efetiva resolução de problemas a partir do olhar para o todo, ao invés de fazer análise específica das par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896400">
            <a:off x="7430760" y="4968360"/>
            <a:ext cx="11016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Abordagem Sistêm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são do todo = Visão Sistêmica, abordagem sistêm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blemas complex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todologia analítica: utilizada na solução de problemas simples, isola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 rot="1050000">
            <a:off x="7019640" y="4759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95280" y="450720"/>
          <a:ext cx="8229600" cy="564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ít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êm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nf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 par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o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amente fech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er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defin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 ou ma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op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 para entrop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aplicável (sistema interage com ambient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tençã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dança e aprendiz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arqu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c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velmente m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ve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ativo, busca novo equilíb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68360" y="6165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ração abordagem analítica x sistêmica (SCHODERBEK et al, 19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Abordagem Sistêm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bordagem Sistêmica: analisa a complexidade do todo, em que um ou vários ambientes estão interagindo com o sistema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 metas devem ser as mudanças e o aprendizado, pois o sistema é adaptativo e busca o equilíbri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stema é o conjunto de objetos com relações entre os objetos e os atributos relacionados com cada um deles e com o ambiente, de maneira a formar um todo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CHODERBEK, P. P.; SCHODERBEK, C. G.; KEFALAS, A. G, 199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Conceito de Siste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64480" y="4784760"/>
            <a:ext cx="16682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698480"/>
            <a:ext cx="810756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junto: coleção bem definida de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bjetos: elementos do sistema - entradas, processamentos e saí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lacionamentos: fronteiras que ligam os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tributos: propriedades dos objetos e dos relacion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biente: interno e ex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Todo: maior que a soma das pa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Conceito de Sistem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5:52:23Z</dcterms:created>
  <dc:creator>user</dc:creator>
  <dc:description/>
  <dc:language>en-US</dc:language>
  <cp:lastModifiedBy>.</cp:lastModifiedBy>
  <cp:lastPrinted>2003-04-22T17:45:33Z</cp:lastPrinted>
  <dcterms:modified xsi:type="dcterms:W3CDTF">2011-08-12T03:36:22Z</dcterms:modified>
  <cp:revision>41</cp:revision>
  <dc:subject/>
  <dc:title>Exercício de aplicação da Metodologia do SSM</dc:title>
</cp:coreProperties>
</file>